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6.jpeg" ContentType="image/jpeg"/>
  <Override PartName="/ppt/media/image14.png" ContentType="image/png"/>
  <Override PartName="/ppt/media/image8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177-F131-4846-9ACC-680CFA95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B64-581B-469C-ACE0-2B338DED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A24-3EA4-4C0B-9C0C-5502424F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2F3-E43C-43C5-909C-330E99DB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BE6C-ED28-4CAA-9B9B-19D4E0C0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1FA7-EB9D-4152-941D-60E4CB39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5D10-4A44-4B0D-A36A-3AFD1ADB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D1BF-1BCF-403D-95AA-DBB74758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822D-F12B-4CCB-B7E4-1597994B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9571-4D29-4716-AE9C-D8A3747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3074-11AA-49CB-8BB8-6E198F00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4F6-085E-44A7-B5E4-F22A51DE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53B8-0C19-4EB1-A134-42157AB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AB89-0E67-42E6-A132-FF63D5D2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52F7-D3C6-474F-B9DB-B6B7565E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7E3D-7C67-4556-8A7C-710BE1A3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17C0-4E32-4AF4-B2E3-4F343C29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475-E476-4FC9-AFF2-3AF0C538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3D2-4790-4F89-92EC-603E0EF3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5AA-AE43-42B7-B30D-3CAA4FC4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D38-F80D-4751-B65F-D4E1DCB2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C0D-A0CA-4CCB-BADF-22C9D87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FC7-4916-4FFD-9D00-B53471F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8C5-AF9E-4438-858D-F0640200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7C3E-589D-44A6-B5F1-03ADEF0ED2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E4EF-6F2A-47C1-A190-6BF36F3A8C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38188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ropósito#2 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os pronombres, lo, la, los, las (Objeto directo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495320"/>
            <a:ext cx="65278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fecha es el 20 de septiembre del 20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) Cambiarlo a su forma plural : 'un líder cubano'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os líderes cuba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s líderes cuba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os líderes cuba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) Cambiarlo a su forma plural : 'el actor español'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actores españ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actor españo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actores españo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) Cambiarlo a su forma plural : 'un día malo'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os días ma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día ma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os días ma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2952720" cy="2381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294600" y="3276720"/>
            <a:ext cx="284940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3502080" cy="298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114800" y="380880"/>
            <a:ext cx="4286160" cy="2943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438280" y="487692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Esquiar en el 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80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buc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666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teles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365760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Esquiar en  la n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s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invierno o el ver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cate wheter each of the following is associated with el invierno or el vera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Bajan la pist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Esquí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Esquían en el agu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Toman la telesil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Usan una toalla playe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Buc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1295280" cy="457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295640" cy="457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129564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467480" y="4572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38480" y="2286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685800" cy="66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2895480" y="2666880"/>
            <a:ext cx="685800" cy="669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4648320" y="3733920"/>
            <a:ext cx="685800" cy="669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04920" y="228600"/>
            <a:ext cx="1143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5867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3880" y="5867280"/>
            <a:ext cx="594360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676440"/>
            <a:ext cx="7696440" cy="5190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5410080"/>
            <a:ext cx="601956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96080" cy="556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00200" y="5562720"/>
            <a:ext cx="59436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19320" y="1981080"/>
            <a:ext cx="7543800" cy="359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actica los pronombr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6960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Encontraste el libro? = No, no _____________________ encontré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Terminaste la composición? = No, no _____________________ terminé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Tienes un lápiz? = No, no _____________________ teng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Sabes la respuesta? = No, no _____________________ sé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Quieres pizza? = Sí, _____________________ quier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Pediste el coche? = Sí, _____________________ pedí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Conoces a Juan? = Sí, _____________________ conozc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Miraste el programa? = No, no _____________________ miré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Vas a cocinar el plato? = Sí, _____________________ voy a cocina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Puedes terminar los proyectos? = Sí, _____________________ puedo termina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Aprendiste las lecciones? = Sí, _____________________ aprendí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Vas a visitar a tus abuelos? = Sí, _____________________ voy a visita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Quieres comer papas fritas. = Sí, _____________________ quiero come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Esperaste a tus padres? = No, no                ._______________ esperé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Leíste el periódico? = No, no _____________________ le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4400" spc="-1" strike="noStrike">
                <a:solidFill>
                  <a:srgbClr val="000000"/>
                </a:solidFill>
                <a:latin typeface="Comic Sans MS"/>
              </a:rPr>
              <a:t>Cómo lo dig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Sí, ten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No, no lo teng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Sigan el modelo (follow the mode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omic Sans MS"/>
              </a:rPr>
              <a:t>Situación o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ividad inc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HN" sz="2800" spc="-1" strike="noStrike">
                <a:solidFill>
                  <a:srgbClr val="000000"/>
                </a:solidFill>
                <a:latin typeface="Comic Sans MS"/>
              </a:rPr>
              <a:t>Pon tu contrato de la clase de español sobre la mesa and take active notes on the less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Comic Sans MS"/>
              </a:rPr>
              <a:t>2. Copia el siguiente vocabulari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Comic Sans MS"/>
              </a:rPr>
              <a:t>Pista, esquiar, esquiar en el agua, tomar, telesilla, toalla playera, buce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Comic Sans MS"/>
              </a:rPr>
              <a:t>3. Empareja el vocabulario con las fo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4400" spc="-1" strike="noStrike">
                <a:solidFill>
                  <a:srgbClr val="000000"/>
                </a:solidFill>
                <a:latin typeface="Comic Sans MS"/>
              </a:rPr>
              <a:t>Dónde es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El banad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Aquí lo tie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Sigan el mode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omic Sans MS"/>
              </a:rPr>
              <a:t>Situación o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358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 compras Lo, la, las, 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47920" y="6172200"/>
            <a:ext cx="632448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4560" y="48006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23600" y="480060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94840" y="48006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5840" y="48006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eta </a:t>
            </a:r>
            <a:br>
              <a:rPr sz="4400"/>
            </a:b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Un regalo que le gustó.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Complet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Compré un regalo para Teresa. ____ compre en la tienda de departamentos Corte Inglés. Compré unos anteojos de sol. A Teresa le gustaron mucho. Ella _____ llevó el toro día cuando fue a la piscina. Ella tiene algunas fotografías con sus anteojos de sol. Su amigo Miguel ____ tom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30481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38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et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s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Invitaste a Juan a la fiest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Invitaste a Alejandr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Compraste los refresc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Preparaste la ensalad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Tomó Pepe las fotografías de la fiesta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432680" y="3246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py and finish the follow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Tú compr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 refresc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ú ____compra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Tú y yo comemos las langostas. Tú y yo ______comemo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Ellos mir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 men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Ellos _____mira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Yo invi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is amig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Yo ____invit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Roberto v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er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Roberto ______ v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7524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Esos señores quie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 cuen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Ellos _____quiere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José p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l jam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Él ___ pid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Yo no conozco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u camare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No ____ conozc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. Tú y yo esperamo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uestra ce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Tú y yo ____ esperam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. Ud. c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 sándwich de jam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Ud. ____com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. Ana cocin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 pastel y unas gallet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Ana ______ coci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 Yo trai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cha car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Yo _____ traig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. Uds. invitan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ola y a Ma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cenar. Uds. ____ invita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. ¿Quién bebe jugo de manzana? ¿Quién ______ beb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ural Forms of Nou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noun ends in a vowel, make it plural by adding -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bro: lib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libro + 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uma: plu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luma + 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co: ch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hico + 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ñora: señor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eñora + 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finite articles (el, la) also change in the plural form. They become "los" and "las." The definite articles will be covered in depth in the next less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 libro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s libr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pluma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s plum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 chico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s chic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señora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s señor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a noun ends in a consonant, make it plural by adding -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 borrador: los borrad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borrador + 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universidad: las universida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universidad + 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 profesor: los profes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profesor + 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ciudad: las ciuda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ciudad + 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noun ends in -ión, add -es and drop the written acc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avión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s av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conversación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s conversac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sección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s secc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televisión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s televis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 may wonder why "avión" isn't feminine. Notice that it doesn't qualify for our rule which says that all nouns ending i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ció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ó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femin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noun ends in -z, add -es and change the z to 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lápiz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s láp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voz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s vo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tapiz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s tap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actriz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s actr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et's review the rules for making nouns plur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noun ends in a vowel, simply ad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-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noun ends in a consonant, simply add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noun ends in a -z, change the z to c before adding -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noun ends in ión, drop the written accent before adding -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plural refers to a mixed group, use the masculin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compound nouns, change "el" to "los"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the plural refers to two or more nouns of different genders, the masculine plural is us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perros + 6 perras = 8 perros (not per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gato + 8 gatas = 9 gatos (not ga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ew nouns are "compound nouns," that is, they are formed by combining two words into 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ample: abre + latas = abrelatas / open + cans = can open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compound nouns are always masculine, and the plural is formed by changing the "el" to "los.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abrelat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s abrela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ragu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s paragu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ividad inc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000000"/>
                </a:solidFill>
                <a:latin typeface="Comic Sans MS"/>
              </a:rPr>
              <a:t>Copia y pon un circuloi en la respuesta correcta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Cambiarlo a su forma plural : 'el doctor alemán'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doctores alema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doctores alemá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doctores alema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Cambiarlo a su forma plural : 'el niño joven'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niños jóve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niños jóve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niños jó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Cambiarlo a su forma plural : 'un plan difícil'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 plan difíc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os planes difíc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s planes difíci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Cambiarlo a su forma plural : 'el chico inglés'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 chicos ingle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 chicos ingl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chico ingle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Cambiarlo a su forma plural : 'la nación grande'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 naciones gran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 naciones gran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nación gran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) Cambiarlo a su forma plural : 'un bar divertido'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bar divert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s bares divert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os bares divert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) Cambiarlo a su forma plural : 'un hotel caro'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os hoteles ca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hotel ca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os hoteles ca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21:08:11Z</dcterms:created>
  <dc:creator>NYCDOE</dc:creator>
  <dc:description/>
  <dc:language>en-US</dc:language>
  <cp:lastModifiedBy>NYCDOE</cp:lastModifiedBy>
  <dcterms:modified xsi:type="dcterms:W3CDTF">2012-10-01T14:32:00Z</dcterms:modified>
  <cp:revision>19</cp:revision>
  <dc:subject/>
  <dc:title>Propósito#54   Los pronombres, lo, la, los, las (Objeto directo)</dc:title>
</cp:coreProperties>
</file>